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42A-76A4-4FB1-B825-B64CF945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726-B2EE-4CE0-AAA2-9FC82C7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43C-8976-4BC8-A15B-F252793F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065-5F6F-4471-A9D4-53B4F4BB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5B64-6469-48C0-933A-4C9B3179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A7AA-256A-4349-AC92-660CED54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9094-B068-4B1A-90EC-2D8067B0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B60-A913-4D19-923F-5146766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56F-6B02-40E1-8EFA-37AF06A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83EC-546A-4689-80C5-D03BA10A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8F55-BF20-4F6E-AB91-4B89D59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105-F9BE-478A-AC7F-577A7959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F7BB-4276-4707-883B-32F644C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CB8A-F43B-49B4-8617-B50694F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BEFE-40FE-45C3-9F90-7C60E8CD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9D9-B38C-4CFC-A9F7-8461268C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B3F-E21A-472C-9106-4FF2DCC4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D1C-245D-4972-91EC-F760364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DFD-5806-4790-89F7-77B1F2D9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6F6-4F1B-4DD9-A8F2-4B79B8AF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6D-EF3A-475B-80F2-898AFF85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B8B-206D-4857-B55F-E5DCDC3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B3E-3086-4562-98AD-DAE5B15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BB7-11A3-45E1-93E7-E7451D5D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DD5-0E6C-44C6-8B07-9698E766550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8DAF-0310-4EDC-A638-1D2A397667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510%5B1%5D.wav" TargetMode="External"/><Relationship Id="rId2" Type="http://schemas.microsoft.com/office/2007/relationships/media" Target="file:///tmp/home/.config/libreoffice/4/user/gallery/MS900069510%5B1%5D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18288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epico Mansio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r Joshua Car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030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incredible y impresionat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3800520" cy="297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 Bano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impresionate y modern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190760" cy="29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 Mans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lujoso y gran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4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dormitorio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bon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epico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743280" cy="25128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2098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 moder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22272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5217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34:05Z</dcterms:created>
  <dc:creator>carterjos</dc:creator>
  <dc:description/>
  <dc:language>en-US</dc:language>
  <cp:lastModifiedBy>carterjos</cp:lastModifiedBy>
  <dcterms:modified xsi:type="dcterms:W3CDTF">2012-03-16T13:15:30Z</dcterms:modified>
  <cp:revision>7</cp:revision>
  <dc:subject/>
  <dc:title>Uhh… cool houses</dc:title>
</cp:coreProperties>
</file>